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36C-24A6-443E-B119-1729263A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EFE-69A1-415C-82EE-85C8BC5F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544-08C0-4BAB-A49F-15A30D4F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CA7-DF2B-4F59-930B-BF3140B0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502-873D-48D4-BA69-698594DA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947-CD1A-4584-9BC5-CC809B78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69F-8A6F-4359-9E5C-C1909C34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909-B14C-4ED0-8B5C-C33210A2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BE7-B371-4195-A047-532D9DED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052-9D25-4151-911D-F24B8F48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43C-A8AE-4447-B7B3-E429EAAA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672-51B2-432B-AA8F-357FD502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B8D4-7598-434F-84C8-54916B302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mbol for a number we don't know yet. It is usually a letter like x or 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n x + 2 = 6, x is the variabl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is not a variable it is called a Consta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, symbols and operators (such as + and ×) grouped together that show the value of something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×3 is an ex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with no fractional part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the counting numbers {1, 2, 3, ...}, zero {0}, and the negative of the counting numbers {-1, -2, -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write them down like this: {..., -3, -2, -1, 0, 1, 2, 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integers: -16, -3, 0, 1, 198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22:47Z</dcterms:created>
  <dc:creator>jacob.fountain</dc:creator>
  <dc:description/>
  <dc:language>en-US</dc:language>
  <cp:lastModifiedBy>jacob.fountain</cp:lastModifiedBy>
  <dcterms:modified xsi:type="dcterms:W3CDTF">2010-11-23T14:52:23Z</dcterms:modified>
  <cp:revision>2</cp:revision>
  <dc:subject/>
  <dc:title>vocabulary</dc:title>
</cp:coreProperties>
</file>